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9D9-282A-4D15-9BF4-89F8EF1E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3CA-9F81-4AAE-A286-CE37CC46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AAC-CB26-41D6-B81F-15BA0CD4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18E-250D-46E3-A818-871E70F6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7D50B-8272-47C0-A421-44D95BBB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7F732-ACBC-4415-A10B-135FAE20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BE364-96FE-42F7-9CAE-E43EDB23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3504B-E34E-4776-BC69-9FBCD5C6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01613-41F3-47B9-987B-E4D56AB1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7FAA8-1685-4202-B17D-5DD33C18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11A6E-DE63-4E9C-8DE5-8DDA79ED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335-2432-4E4A-BB7C-15C80D8E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780F7-6C31-4E21-81D7-EABD049D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0450E-044E-4379-976B-36FC6363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C594A-FB37-40A3-BE94-86BFD6A4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363A1-29FD-4A57-9B08-884A1CDB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0A68C-E422-4D73-88CE-EA5A92DC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1D3-076B-42DC-9502-7C637A65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FB29-A485-466D-AB8C-28D243BA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BEA-7DB8-4770-88A6-BE551668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106-8EBE-40B3-9C01-67B3C834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944-D90B-499B-958C-164EFA65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E54-D2D3-4DCC-A60F-07B961EC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796-9436-4AB6-9331-21874D33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DB76-645F-4CB6-9530-935EA397DF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8A3C-6A3C-4B14-A270-C954518697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nflasyonun Okuma Alışkanlığına Etkisi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ağımsız Değişken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flasy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ağımlı Değişken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kuma Alışkan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ra Değişkenler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evresel Faktör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 Arkadaş grupları, aile, okul, medya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  <a:ea typeface="Arial"/>
              </a:rPr>
              <a:t>Eğitim Siste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  <a:ea typeface="Arial"/>
              </a:rPr>
              <a:t>Sosyo Kültürel Düz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  <a:ea typeface="Arial"/>
              </a:rPr>
              <a:t>Teknoloji ( Tv, bilgisayar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üzenleyici Değişkenler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edyanın okuma alışkanlığı kazandırmaya yönelik özendirici girişim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tap fiyatlarının düş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nflasyonun istenen seviyeye inmesi sağlan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7:51:06Z</dcterms:created>
  <dc:creator>PERFECT PC1</dc:creator>
  <dc:description/>
  <dc:language>en-US</dc:language>
  <cp:lastModifiedBy>PERFECT PC1</cp:lastModifiedBy>
  <dcterms:modified xsi:type="dcterms:W3CDTF">2010-10-02T18:20:50Z</dcterms:modified>
  <cp:revision>2</cp:revision>
  <dc:subject/>
  <dc:title>Enflasyonun Okuma Alışkanlığına Etkisi</dc:title>
</cp:coreProperties>
</file>